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jpeg" ContentType="image/jpeg"/>
  <Override PartName="/ppt/media/image24.jpeg" ContentType="image/jpeg"/>
  <Override PartName="/ppt/media/image26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27.jpeg" ContentType="image/jpeg"/>
  <Override PartName="/ppt/media/image6.jpeg" ContentType="image/jpeg"/>
  <Override PartName="/ppt/media/image28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99B0-4D94-4799-8C22-3D3ABD46A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B74A-B6A9-4D8F-9C1C-B47970B7C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672C-50F3-4C15-9F7D-8F700E286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1EC3-7975-4713-8E2A-5141C766B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315D-CDC6-4E70-BA6B-A7FEDF6F3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B760-6461-49F7-A392-7B414FC8D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3DA0-CC63-4FE9-BE7C-F21A3A599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B126-79E6-4223-B78E-0FD5999F7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6947-E4BE-4992-A499-DFF4BD540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930D-CB44-4C27-8E5A-A21CDDA68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8AD3-2C6C-4422-9F07-5A66165E7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4C5E-9CD6-4AB3-A7D0-6A9AC8205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04CE0-535A-479B-8FA6-2D9CFFC5E5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image" Target="../media/image23.jpeg"/><Relationship Id="rId9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gency FB"/>
              </a:rPr>
              <a:t>BY: Katia Wagn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gency FB"/>
              </a:rPr>
              <a:t>March 16, 20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219320" y="914400"/>
            <a:ext cx="701028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Harrington"/>
              </a:rPr>
              <a:t>Earth Science!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Harrington"/>
              <a:ea typeface="Harrington"/>
            </a:endParaRPr>
          </a:p>
        </p:txBody>
      </p:sp>
    </p:spTree>
  </p:cSld>
  <p:transition>
    <p:split dir="in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Jokerman"/>
              </a:rPr>
              <a:t>Rocks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371600" y="0"/>
            <a:ext cx="6095880" cy="40194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121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Mineral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5181480" y="3962520"/>
            <a:ext cx="3962520" cy="28954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895480" y="4000680"/>
            <a:ext cx="2286000" cy="28573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6781680" y="2190600"/>
            <a:ext cx="2362320" cy="17719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5"/>
          <a:stretch/>
        </p:blipFill>
        <p:spPr>
          <a:xfrm>
            <a:off x="0" y="3962520"/>
            <a:ext cx="2895480" cy="28954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6"/>
          <a:stretch/>
        </p:blipFill>
        <p:spPr>
          <a:xfrm>
            <a:off x="6781680" y="0"/>
            <a:ext cx="2362320" cy="22096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7"/>
          <a:stretch/>
        </p:blipFill>
        <p:spPr>
          <a:xfrm>
            <a:off x="0" y="1981080"/>
            <a:ext cx="1828800" cy="19717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8"/>
          <a:stretch/>
        </p:blipFill>
        <p:spPr>
          <a:xfrm>
            <a:off x="0" y="0"/>
            <a:ext cx="20574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343400" cy="21337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4343400" y="0"/>
            <a:ext cx="4800600" cy="213372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"/>
              </a:rPr>
              <a:t>Sedimentary Rock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4343400" y="4267080"/>
            <a:ext cx="4800600" cy="25909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4343400" y="2133720"/>
            <a:ext cx="4800600" cy="23619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0" y="4495680"/>
            <a:ext cx="4343400" cy="23623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6"/>
          <a:stretch/>
        </p:blipFill>
        <p:spPr>
          <a:xfrm>
            <a:off x="0" y="2133720"/>
            <a:ext cx="4343400" cy="23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Britannic Bold"/>
              </a:rPr>
              <a:t>Igneous Rock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Rockwell Extra Bold"/>
              </a:rPr>
              <a:t>Metamorphic Ro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-228600"/>
            <a:ext cx="9144000" cy="70866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Showcard Gothic"/>
              </a:rPr>
              <a:t>Plate tectonic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Jokerman"/>
              </a:rPr>
              <a:t>Spreading Bound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121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Ravie"/>
              </a:rPr>
              <a:t>Fracture Bound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Colliding boundari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124080" y="2209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Maiandra GD"/>
              </a:rPr>
              <a:t>Earthquak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3581280"/>
            <a:ext cx="4343400" cy="32767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419720" cy="35812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4343400" y="0"/>
            <a:ext cx="4800600" cy="35812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4343400" y="3581280"/>
            <a:ext cx="4800600" cy="327672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Bradley Hand ITC"/>
              </a:rPr>
              <a:t>Earthquake in Japa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343400" cy="33526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343400" y="0"/>
            <a:ext cx="4800600" cy="335268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nap ITC"/>
              </a:rPr>
              <a:t>Volcanoe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4343400" y="3352680"/>
            <a:ext cx="4800600" cy="35053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0" y="3352680"/>
            <a:ext cx="43434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6T17:28:22Z</dcterms:created>
  <dc:creator>kwagner</dc:creator>
  <dc:description/>
  <dc:language>en-US</dc:language>
  <cp:lastModifiedBy>kwagner</cp:lastModifiedBy>
  <dcterms:modified xsi:type="dcterms:W3CDTF">2011-03-17T17:45:02Z</dcterms:modified>
  <cp:revision>4</cp:revision>
  <dc:subject/>
  <dc:title>Slide 1</dc:title>
</cp:coreProperties>
</file>